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DF1-5B9A-4DAE-85DD-005D25E1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4C1-0360-4C6A-8BDB-478F8E5A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B0C-F355-4EE6-98DC-A2555E22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848-EEFE-462A-A951-2DB769B2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5F2C7-4A50-44C5-9408-AEA7FAD8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046AE-8A90-48D3-A180-8D3077FB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E47F9-215B-476D-9C4D-4F301487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732A0-8B0B-4C24-8145-CF675038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9F8D5-DEA2-4D25-896C-1C6E878F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6CAF7-105D-4965-9D84-1D86BEAA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C9690-3F51-4F35-B13E-C788C78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ADC-DD11-444E-91B2-0CBFF6FA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7894D-58AF-498E-96EE-0B0D042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BD4AC-A9E4-4229-86AB-B155585C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24240-6523-4D12-B138-B8ABF7E1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22885-DF9E-47EF-A909-6C66BCEF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B8AB9-BA43-49CA-9891-97816C89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3B93A-39B3-4908-9829-D8663E50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A5E69-3EE7-4051-BCA7-5E4F98AF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68704-9E5E-44C6-B535-EBC4EBC5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48CAE-66F6-47E9-936F-3BBAC7F7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C3100-FDA9-4D64-A423-1350072C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8D5-578A-4C91-8500-734F4469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D5D85-8125-4840-9376-3E79E524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060AD-DCD8-464A-9E9C-5AAB35A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72AF0-ADDC-463E-8254-47E82C73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F9470-810A-4462-B196-3E1B8F8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4184C-9B2B-4485-9FE9-165EDFF1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61C8D-BE72-4717-94EF-95FBEE39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B9E7B-65DA-4EAE-A2A7-2A5ECD61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367A-8548-4492-B473-2ED5D264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1805-D506-4015-B435-4A98168C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BB24-BED3-400F-92C7-D20BF4DB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39A-175D-4E40-8BDC-E71ECCCA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E633-E1D8-4165-8FDE-5DA52B90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9792-8500-4952-9116-68456453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F432-E084-4715-951E-612CC10D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209F7-9A12-4361-B970-C7E1500C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3D152-68AC-4BF7-A6BE-104DBE0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7BCF-9540-4CFE-AE80-97000E4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41160-33B1-48AC-8266-F440546B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054E-7EFC-4F37-850C-8E48E3D6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0234-D562-4CAD-999C-87C4F513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32EDA-FCC4-49EE-9EB2-B9565E3A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98A-ACD0-409C-A113-E56540C8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CB6F0-D745-437C-80F1-340B43EF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EF519-6077-4BDA-B6C1-F3279E17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7727-7890-4280-A8A4-24CAAD4A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DFFEA-CF51-4D41-9B19-AA386627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9A64-B49A-4178-9E1E-C14CFB0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3915-7337-430A-8144-1D2984CC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921A3-A1B5-4B5E-BC00-B35101D1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615D-F2AF-401E-9622-BC879914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D8B83-DB6E-4E62-8DA4-9F8350DD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4448-8664-49B8-A7CE-7EF6CA87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B26-A1E1-4B03-880E-C98A559B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76AF-A99F-475F-80A9-86F14DAC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C5C7B-BD36-4423-98CB-5F0BE2EE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0CD4-9016-475F-A401-8B8DA009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C8337-2AEC-4D8A-AF5A-6CEB51CB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D0654-0CFD-4827-8E55-05AA28A2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3FE5-D46B-4A0D-B83D-C5A7ED3D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EE059-CC53-459D-B469-6D1C85D5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68CD-AAAC-4A9D-AD03-A06551B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1F8A0-0050-42CC-9881-91B95A5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656C2-F077-439F-88F0-CADFD287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2A8-936C-4367-BA15-C82F19B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FFBDD-E1A8-450D-875B-C76A08E5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C1920-44C8-4C48-8089-77344EA1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3187-132C-4F62-A024-CFA58CD8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B7C78-5814-4E0B-8726-CC09CF5A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3E9E6-F9EF-4C7D-A9EB-B5CC161B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DD648-4B06-48AF-8336-1CB6ADF1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D069-CDA7-4183-9AF1-F24C6D2C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D6AE-1F52-40F2-85A2-56D7CA2E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8FE27-5209-492B-896D-B84A9221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D2395-F303-4DA0-B407-771387F3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30D-24B7-4C1D-9588-35CE3802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9651D-3DA0-444D-A8D9-72AE9AA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EC2ED-C296-4512-91B9-90680F99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8620-5AA7-4B75-BEEE-712BAB1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6D300-B305-4BD8-AB86-C29297EA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D3D2A-46DE-4FEF-8B13-9CDCE1EB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4FF-C9C5-466B-9E86-E49F28B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406-DDD2-48DD-823D-115738B9EA04}" type="slidenum"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95FC-39FF-488C-8CD2-F452B4F2590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2856-C21B-4B7D-B2A2-C8D55EF28657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A4E8-E371-4BC2-83F0-BE7BD3AE6C5B}" type="slidenum"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408A-61CC-4945-B5CA-3B178DD17AC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B03F-B904-4F26-84B9-8F5A7EAA4CB7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CC41-E312-46D1-95A9-BD9B48BB6065}" type="slidenum"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Creative Writing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NOV. 8, 2011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If you could transport yourself anyone in the world right now, where would you go? Why?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RITING WARM-UP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447920" y="2614680"/>
            <a:ext cx="60195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A type of poetry that does not have a specific and structured rhythm or rhyme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FREE VERSE POEMS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GONNA BAKE ME A RAINBOW POEM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752480"/>
            <a:ext cx="3124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stirred 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me red and o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blue and pur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our momma’s pa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ted a lott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imbo’s cray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they stu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he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 and my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APED AND SCRA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butter kni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191120" y="1676520"/>
            <a:ext cx="327636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til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momma wal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 the 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sa’ yelli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sa’ cryi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friend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 wan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a rainbow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’t like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omy 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y Wil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HEDDAR CHEESE AND CHOCOLATE CAK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80880" y="160020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am crazy about rich, dark, espresso coffe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am addicted to extra-sharp cheddar cheese and chocolate cak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never tire of window-shopping or munching crisp apple pies from Burger King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can consume a whole package of Wheat Thins while curled up reading a favorite nove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wear purple eyeshadow and pink nail varnish- alway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love to laugh and scream for joy, to sing at the top of my voic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like to play heavy rock loud enough to burst your eardrums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 like crazy parties, whipped cream, and solitu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et Gainsbo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THINGS THAT GO AWAY &amp; COME BACK AGAI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80880" y="1752480"/>
            <a:ext cx="3124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ou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sb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mera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ght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un, the moon, the st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267080" y="1828800"/>
            <a:ext cx="3124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d 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ea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d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y Laund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e Wal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ICCUP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09480" y="220968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r Hiccup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’re the enemy of my mouth and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’re the worst thing that could ever- hic- happ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ever should disturb me aga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hall toss you out of my vocal ch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’re like hail on an angry allig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catch my drift, dear hiccups-hic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get far, far a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out-hic-DEAR, AWFUL HICCUP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ic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nnifer Nussi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6840" y="1722600"/>
            <a:ext cx="4040280" cy="4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4949"/>
                </a:solidFill>
                <a:latin typeface="Franklin Gothic Medium"/>
              </a:rPr>
              <a:t>The Journey</a:t>
            </a:r>
            <a:endParaRPr b="0" lang="en-US" sz="2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520" y="2133720"/>
            <a:ext cx="4116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0772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One day you finally knew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hat you had to do, and began,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ough the voices around you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kept shouting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eir bad advice --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ough the whole house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egan to tremble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and you felt the old tug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at your ankles.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"Mend my life!"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each voice cried.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ut you didn't stop.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You knew what you had to do,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48040" indent="-207720">
              <a:lnSpc>
                <a:spcPct val="80000"/>
              </a:lnSpc>
              <a:spcBef>
                <a:spcPts val="451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ough the wind pried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ith its stiff fingers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at the very foundations,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though their melancholy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as terrible.</a:t>
            </a:r>
            <a:br>
              <a:rPr sz="1800"/>
            </a:b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419360" y="144756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By Mary Oliver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752120"/>
            <a:ext cx="381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180360">
              <a:spcBef>
                <a:spcPts val="34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15280" indent="-180360">
              <a:spcBef>
                <a:spcPts val="4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It was already late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enough, and a wild night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and the road full of fallen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branches and stones.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But little by little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as you left their voices behind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e stars began to burn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rough the sheets of clouds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and there was a new voice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which you slowly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recognized as your own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at kept you company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as you strode deeper and deeper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into the world,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termined to do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e only thing you could do --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termined to save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the only life you could save. </a:t>
            </a:r>
            <a:br>
              <a:rPr sz="1600"/>
            </a:b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CCALL’S FAVORITE POEM EVER!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rite your own free verse poem with at least 10 lines, a refrain and alliteration.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e prepared to share. </a:t>
            </a:r>
            <a:r>
              <a:rPr b="0" lang="en-US" sz="2000" spc="-1" strike="noStrike">
                <a:solidFill>
                  <a:srgbClr val="53494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2:41:03Z</dcterms:created>
  <dc:creator>David Huff</dc:creator>
  <dc:description/>
  <dc:language>en-US</dc:language>
  <cp:lastModifiedBy>Angie McCall</cp:lastModifiedBy>
  <dcterms:modified xsi:type="dcterms:W3CDTF">2011-11-07T21:37:39Z</dcterms:modified>
  <cp:revision>7</cp:revision>
  <dc:subject/>
  <dc:title>Free Verse Poems</dc:title>
</cp:coreProperties>
</file>